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46B-3530-4588-91B3-30AF1A68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C7A-13BE-41C6-B1DF-96C34487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0BF-61D1-4DFD-8FB8-9F3245EC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6D9-46FE-4817-84B5-D8B46197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3034-9F11-480A-AE4B-FC9E4E78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471A-C167-420E-987B-45099D72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94E1-D0D8-44AB-A717-21243A35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C0FD-00B6-437E-92BA-77E6B9D0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815E-10A1-4B0E-B0FC-AF109FA2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890F-39C0-4F53-8AD4-F03BEDE2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B85B-E131-4A42-9CEA-7E592DAC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F7C-54D6-4382-88C3-4DB53E44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76FF-A9B4-4013-A859-F7D35394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2A18-593E-471A-9B16-97E4F880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6DEB-83F0-44CE-88A0-AA55F402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7F0A-AF0D-4CAA-9D10-60ADD947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8A86-E816-400A-9696-1476C494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87A5-D661-43BC-A37F-788A5379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142-4793-47EF-990E-E422FFAF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EEB7-296A-4816-AAF8-5AB12988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EE3-3916-492A-A169-5356159B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71B-1A15-452F-9CB3-4F800EFD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2C9-8699-4254-BFF8-6CE14EBB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E04-CEFD-4511-9024-9C0763C1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737A-2410-4ECE-AD48-D91BD2C27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1166-3516-4FDA-AE1F-B01ABE2E996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en.wikipedia.org/wiki/File:William-Calley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19.3:  The War Winds Dow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86950"/>
                </a:solidFill>
                <a:latin typeface="Times New Roman"/>
              </a:rPr>
              <a:t>Protest, protest, and more prote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.  Election of 1972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620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rge McGovern (D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slide victoryw/60% of popular vo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ard Nixon 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1835280" cy="2438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62720" y="2438280"/>
            <a:ext cx="284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.  Christmas Bombing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(’72)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Dec. 1972: peace negotiations break down = “Christmas bombings” (11 days of bombing to resume peace talks stopping only on Christmas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   Jan. 27, 1973 = agreement reached; by March all soldiers g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Nalty1.jpg"/>
          <p:cNvPicPr/>
          <p:nvPr/>
        </p:nvPicPr>
        <p:blipFill>
          <a:blip r:embed="rId1"/>
          <a:stretch/>
        </p:blipFill>
        <p:spPr>
          <a:xfrm>
            <a:off x="5257800" y="2220840"/>
            <a:ext cx="3886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62120" indent="-762120" algn="ctr">
              <a:buClr>
                <a:srgbClr val="996600"/>
              </a:buClr>
              <a:buFont typeface="Times New Roman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Fall of Siagon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219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ril 1975, Southern Vietnam falls to Northern for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ress does not approve he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Saigon-hubert-van-es.jpg"/>
          <p:cNvPicPr/>
          <p:nvPr/>
        </p:nvPicPr>
        <p:blipFill>
          <a:blip r:embed="rId1"/>
          <a:stretch/>
        </p:blipFill>
        <p:spPr>
          <a:xfrm>
            <a:off x="2057400" y="2967120"/>
            <a:ext cx="592452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I.  The Legacy of Vietn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A. Human toll</a:t>
            </a:r>
            <a:br>
              <a:rPr sz="4000"/>
            </a:b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733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58,000 d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300,000 inj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% (450,000) PTSD, suicides, addi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/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arades; hos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70 Billion on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7800" y="198072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82: Vietnam Veterans Mem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0" descr="tommycanuhearme"/>
          <p:cNvPicPr/>
          <p:nvPr/>
        </p:nvPicPr>
        <p:blipFill>
          <a:blip r:embed="rId1"/>
          <a:stretch/>
        </p:blipFill>
        <p:spPr>
          <a:xfrm>
            <a:off x="4809960" y="2438280"/>
            <a:ext cx="433404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America_and_the_Vietnam_War.asf" descr=""/>
          <p:cNvPicPr/>
          <p:nvPr/>
        </p:nvPicPr>
        <p:blipFill>
          <a:blip r:embed="rId1"/>
          <a:stretch/>
        </p:blipFill>
        <p:spPr>
          <a:xfrm>
            <a:off x="76320" y="363600"/>
            <a:ext cx="896616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6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****************************2.  Continued Fighting in SE Asia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t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at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99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bodia’s Khmer Ro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   Communist group who opposed capit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   Wanted a peasant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 up killing over 2 million Cambo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5120" y="25905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117440" indent="-1117440" algn="ctr">
              <a:buClr>
                <a:srgbClr val="9966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Nixon Moves to 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nd the Wa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A.  Henry Kissinger</a:t>
            </a:r>
            <a:br>
              <a:rPr sz="4000"/>
            </a:b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700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Security Advi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spcBef>
                <a:spcPts val="700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nkage polic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improve relations w/SU and China so as to reduce aid to Vietn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spcBef>
                <a:spcPts val="700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negotiator w/N.Vietn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spcBef>
                <a:spcPts val="700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bel Peace Prize winners 197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57800" y="198072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Duc T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695600" y="97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Henry_Kissinger"/>
          <p:cNvPicPr/>
          <p:nvPr/>
        </p:nvPicPr>
        <p:blipFill>
          <a:blip r:embed="rId1"/>
          <a:stretch/>
        </p:blipFill>
        <p:spPr>
          <a:xfrm>
            <a:off x="6019920" y="152280"/>
            <a:ext cx="2111400" cy="3200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image 1"/>
          <p:cNvPicPr/>
          <p:nvPr/>
        </p:nvPicPr>
        <p:blipFill>
          <a:blip r:embed="rId2"/>
          <a:stretch/>
        </p:blipFill>
        <p:spPr>
          <a:xfrm>
            <a:off x="6114960" y="3505320"/>
            <a:ext cx="1919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. </a:t>
            </a:r>
            <a:r>
              <a:rPr b="0" i="1" lang="en-US" sz="4000" spc="-1" strike="noStrike" u="sng">
                <a:solidFill>
                  <a:srgbClr val="996600"/>
                </a:solidFill>
                <a:uFillTx/>
                <a:latin typeface="Times New Roman"/>
              </a:rPr>
              <a:t>Vietnamization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71600" y="17521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ing the Vietnamese take a more active role by withdrawing US troop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secretly bombs Cambo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lent major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mainstream Americans who quietly supported the president’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73392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://ts2.mm.bing.net/images/thumbnail.aspx?q=4594292712604653&amp;id=c577a2d4c9a9a496a63d898f9bf2f597&amp;url=http%3a%2f%2fronwade.freeservers.com%2fsilentMajorityButton.jpg"/>
          <p:cNvPicPr/>
          <p:nvPr/>
        </p:nvPicPr>
        <p:blipFill>
          <a:blip r:embed="rId2"/>
          <a:stretch/>
        </p:blipFill>
        <p:spPr>
          <a:xfrm>
            <a:off x="6006960" y="1738440"/>
            <a:ext cx="2044800" cy="2071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http://ts2.mm.bing.net/images/thumbnail.aspx?q=4659919811314357&amp;id=8e102705614c744710c7900ee89c8ac0&amp;url=http%3a%2f%2fwww.52en.com%2fimg%2f197px-Nixon_30-0316a.jpg"/>
          <p:cNvPicPr/>
          <p:nvPr/>
        </p:nvPicPr>
        <p:blipFill>
          <a:blip r:embed="rId3"/>
          <a:stretch/>
        </p:blipFill>
        <p:spPr>
          <a:xfrm>
            <a:off x="6006960" y="3962520"/>
            <a:ext cx="2133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C.  My Lai Massacre </a:t>
            </a: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(11/69)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     Lt. Wm Calley</a:t>
            </a:r>
            <a:endParaRPr b="0" lang="en-US" sz="2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689120" y="15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9" descr="ugly_mylaimassacre"/>
          <p:cNvPicPr/>
          <p:nvPr/>
        </p:nvPicPr>
        <p:blipFill>
          <a:blip r:embed="rId1"/>
          <a:stretch/>
        </p:blipFill>
        <p:spPr>
          <a:xfrm>
            <a:off x="838080" y="1397160"/>
            <a:ext cx="8305920" cy="5476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William-Calle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08800" y="0"/>
            <a:ext cx="1735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392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.  Invasion of Cambodia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(4/70)</a:t>
            </a:r>
            <a:endParaRPr b="0" lang="en-US" sz="2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47920" y="1752120"/>
            <a:ext cx="3884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oy supply centers and Ho Chi Minh trail without Congress’s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 protests increa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t State – 4 k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son State -2 k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3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lf Tonkin Resolution repea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’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 Powers 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’7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695600" y="97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6172200" y="1371600"/>
            <a:ext cx="2182680" cy="2590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image_662687"/>
          <p:cNvPicPr/>
          <p:nvPr/>
        </p:nvPicPr>
        <p:blipFill>
          <a:blip r:embed="rId2"/>
          <a:stretch/>
        </p:blipFill>
        <p:spPr>
          <a:xfrm>
            <a:off x="5715000" y="4038480"/>
            <a:ext cx="29052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7520" y="376200"/>
            <a:ext cx="904716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War Powers Act-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ident must inform congress within 48 hours if US forces are  sent into a hostile area without a declaration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ops may not stay longer than 90 days unless congress appro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.  Pentagon Papers (6/71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d to expand war w/o Congress 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. Johnson was not honest with Americ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’t continues to lose cred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i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s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8" descr="ellsberg"/>
          <p:cNvPicPr/>
          <p:nvPr/>
        </p:nvPicPr>
        <p:blipFill>
          <a:blip r:embed="rId1"/>
          <a:stretch/>
        </p:blipFill>
        <p:spPr>
          <a:xfrm>
            <a:off x="5257800" y="1828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159680" y="4267080"/>
            <a:ext cx="1984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5-08T19:49:42Z</dcterms:modified>
  <cp:revision>24</cp:revision>
  <dc:subject/>
  <dc:title>PowerPoint Presentation</dc:title>
</cp:coreProperties>
</file>